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7.png" ContentType="image/png"/>
  <Override PartName="/ppt/media/image22.jpeg" ContentType="image/jpeg"/>
  <Override PartName="/ppt/media/image12.wmf" ContentType="image/x-wmf"/>
  <Override PartName="/ppt/media/image8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ld compare to wholes 2/5 vs 2.5/6 = 5/12  or could argue put in 25% more yellow but only 17% more b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ill actually see a variation of this problem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e t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lk about how the problems you tried related to p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aseball bat and scissors, spinner, paint c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4 are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shapes if 12 are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12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awing avoids th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6 shapes; asking how many triangles for 12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aring 4 to 18 by dividing just like, in the last slide we compared 6 to 12 by divi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, imagine 4 triangles for every 8 shapes and you have 12 shapes and want to know how many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 time compared 4 to $10 to get unit price or recognize that 10 is 2.5 x 4 and then use same relationship on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r every 6 shapes, there are 4 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if 21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blem is 4 triangles in every 6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many triangles for 21 sh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would baby bear’s lunch look lik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how important array is to show that 4/5 = 8/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obvious at all ; it is less not because there is less stu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ven misleading; some see 1 blue for 4 stars vs 1 blue for 9 stars and don’t know what to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econd picture is more “star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ample of an interesting proportional reasoning Fermi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lve by sampling which is where the proportion stuff com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 think every Fermi problem solved by sampling is about proportional reaso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rmal bat is 83 cm  and normal scissors is about 20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group to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st think about how to resp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85 cm longer; almost twice; more than half; only double vs around 4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.g. 5/10 red and 2/10 blue and 3/10 ye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ither 4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9E38-D728-429C-8218-ED068B23F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1EE8-EB99-4676-BF67-87BCAD955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A77E-EE71-4C23-9219-02E7CA755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DD5A-FC2D-4BD1-A17B-EA70D5708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FC9C-68CF-4C9E-A52D-B59FB2099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4059-C087-4835-A826-1DCAC157A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D3AE-479C-4A49-89DC-12FF256A6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3E1A-03DF-41DF-A388-DFC6120B7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7255-4B44-4D36-A62F-0975CC14E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BECE-FF70-4F7D-A51C-DC0C17EE6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FABE-65C3-41EA-A709-133FB4B65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5A9F-A68C-409D-B657-0CE4CEEFD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F588-3F8B-4E1A-AC1F-1EC0F88A2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CA00-DA51-457F-9ABB-E3A30351C7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Proportional Reasoning:  </a:t>
            </a:r>
            <a:br>
              <a:rPr sz="4800"/>
            </a:b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What it Is and Isn’t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2800" y="-241200"/>
            <a:ext cx="7358040" cy="1714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xing colou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Jan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an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ame shade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357720" y="115740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227480" y="3174840"/>
            <a:ext cx="874800" cy="66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821640" y="1273320"/>
            <a:ext cx="93024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7599240" y="3219480"/>
            <a:ext cx="911520" cy="59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2473200" y="1157400"/>
            <a:ext cx="992160" cy="108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6"/>
          <a:stretch/>
        </p:blipFill>
        <p:spPr>
          <a:xfrm>
            <a:off x="3357720" y="281772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7"/>
          <a:stretch/>
        </p:blipFill>
        <p:spPr>
          <a:xfrm>
            <a:off x="2482920" y="2817720"/>
            <a:ext cx="990360" cy="10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8"/>
          <a:stretch/>
        </p:blipFill>
        <p:spPr>
          <a:xfrm>
            <a:off x="5054760" y="1273320"/>
            <a:ext cx="928440" cy="99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9"/>
          <a:stretch/>
        </p:blipFill>
        <p:spPr>
          <a:xfrm>
            <a:off x="5938920" y="1273320"/>
            <a:ext cx="928440" cy="99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10"/>
          <a:stretch/>
        </p:blipFill>
        <p:spPr>
          <a:xfrm>
            <a:off x="5946840" y="290664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11"/>
          <a:stretch/>
        </p:blipFill>
        <p:spPr>
          <a:xfrm>
            <a:off x="5072040" y="290664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12"/>
          <a:stretch/>
        </p:blipFill>
        <p:spPr>
          <a:xfrm>
            <a:off x="6821640" y="2906640"/>
            <a:ext cx="930240" cy="99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2939400" y="2149200"/>
            <a:ext cx="93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2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5977800" y="2154240"/>
            <a:ext cx="936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3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68840" y="3886200"/>
            <a:ext cx="128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2    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13"/>
          <a:stretch/>
        </p:blipFill>
        <p:spPr>
          <a:xfrm>
            <a:off x="4535640" y="3182760"/>
            <a:ext cx="107640" cy="27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"/>
          <p:cNvPicPr/>
          <p:nvPr/>
        </p:nvPicPr>
        <p:blipFill>
          <a:blip r:embed="rId14"/>
          <a:stretch/>
        </p:blipFill>
        <p:spPr>
          <a:xfrm>
            <a:off x="6161040" y="3835440"/>
            <a:ext cx="206280" cy="58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"/>
          <p:cNvPicPr/>
          <p:nvPr/>
        </p:nvPicPr>
        <p:blipFill>
          <a:blip r:embed="rId15"/>
          <a:stretch/>
        </p:blipFill>
        <p:spPr>
          <a:xfrm>
            <a:off x="3089160" y="3825720"/>
            <a:ext cx="206640" cy="590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1"/>
          <p:cNvSpPr/>
          <p:nvPr/>
        </p:nvSpPr>
        <p:spPr>
          <a:xfrm>
            <a:off x="5918400" y="3940200"/>
            <a:ext cx="128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Gill Sans"/>
              </a:rPr>
              <a:t>3     ca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90b00"/>
                </a:solidFill>
                <a:latin typeface="Arial"/>
              </a:rPr>
              <a:t>deliberate use of multiplicative relationships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compar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and to </a:t>
            </a:r>
            <a:r>
              <a:rPr b="1" lang="en-US" sz="3400" spc="-1" strike="noStrike">
                <a:solidFill>
                  <a:srgbClr val="d90b00"/>
                </a:solidFill>
                <a:latin typeface="Arial"/>
              </a:rPr>
              <a:t>predic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1331720" y="1866960"/>
            <a:ext cx="2670120" cy="26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0831680" y="2633760"/>
            <a:ext cx="2652480" cy="26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tive approa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Freeform 2"/>
          <p:cNvSpPr/>
          <p:nvPr/>
        </p:nvSpPr>
        <p:spPr>
          <a:xfrm>
            <a:off x="598320" y="1830240"/>
            <a:ext cx="892440" cy="893880"/>
          </a:xfrm>
          <a:custGeom>
            <a:avLst/>
            <a:gdLst>
              <a:gd name="textAreaLeft" fmla="*/ 0 w 892440"/>
              <a:gd name="textAreaRight" fmla="*/ 892800 w 8924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1581120" y="1830240"/>
            <a:ext cx="892080" cy="893880"/>
          </a:xfrm>
          <a:custGeom>
            <a:avLst/>
            <a:gdLst>
              <a:gd name="textAreaLeft" fmla="*/ 0 w 892080"/>
              <a:gd name="textAreaRight" fmla="*/ 892440 w 89208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4"/>
          <p:cNvSpPr/>
          <p:nvPr/>
        </p:nvSpPr>
        <p:spPr>
          <a:xfrm>
            <a:off x="598320" y="2795760"/>
            <a:ext cx="892440" cy="892080"/>
          </a:xfrm>
          <a:custGeom>
            <a:avLst/>
            <a:gdLst>
              <a:gd name="textAreaLeft" fmla="*/ 0 w 892440"/>
              <a:gd name="textAreaRight" fmla="*/ 892800 w 89244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1660680" y="2795760"/>
            <a:ext cx="893520" cy="8920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10800" y="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"/>
          <p:cNvSpPr/>
          <p:nvPr/>
        </p:nvSpPr>
        <p:spPr>
          <a:xfrm>
            <a:off x="2803680" y="183024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3880 h 89388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2803680" y="2884320"/>
            <a:ext cx="893520" cy="892440"/>
          </a:xfrm>
          <a:custGeom>
            <a:avLst/>
            <a:gdLst>
              <a:gd name="textAreaLeft" fmla="*/ 0 w 893520"/>
              <a:gd name="textAreaRight" fmla="*/ 893880 w 89352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"/>
          <p:cNvSpPr/>
          <p:nvPr/>
        </p:nvSpPr>
        <p:spPr>
          <a:xfrm>
            <a:off x="438120" y="571680"/>
            <a:ext cx="8920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1419120" y="57168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438120" y="153504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00120" y="153504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2643120" y="571680"/>
            <a:ext cx="892080" cy="8935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2643120" y="1625760"/>
            <a:ext cx="8920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153040" y="1419120"/>
            <a:ext cx="8920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134040" y="1419120"/>
            <a:ext cx="893880" cy="893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153040" y="2384280"/>
            <a:ext cx="892080" cy="892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6215040" y="2384280"/>
            <a:ext cx="892080" cy="892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7358040" y="1419120"/>
            <a:ext cx="892080" cy="8938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7358040" y="2473200"/>
            <a:ext cx="892080" cy="893880"/>
          </a:xfrm>
          <a:prstGeom prst="ellipse">
            <a:avLst/>
          </a:prstGeom>
          <a:solidFill>
            <a:srgbClr val="b31a22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9055080" y="1009800"/>
            <a:ext cx="892080" cy="89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10688760" y="1009800"/>
            <a:ext cx="893520" cy="892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9705960" y="1973160"/>
            <a:ext cx="8938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0769760" y="197316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11912760" y="1009800"/>
            <a:ext cx="892080" cy="892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11912760" y="206208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9055080" y="59832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15243120" y="59832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14260680" y="156204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15324120" y="156204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16467120" y="598320"/>
            <a:ext cx="892080" cy="89244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16467120" y="1652760"/>
            <a:ext cx="892080" cy="8920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5"/>
          <p:cNvSpPr/>
          <p:nvPr/>
        </p:nvSpPr>
        <p:spPr>
          <a:xfrm>
            <a:off x="9055080" y="18720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6"/>
          <p:cNvSpPr/>
          <p:nvPr/>
        </p:nvSpPr>
        <p:spPr>
          <a:xfrm>
            <a:off x="14590800" y="18720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7"/>
          <p:cNvSpPr/>
          <p:nvPr/>
        </p:nvSpPr>
        <p:spPr>
          <a:xfrm>
            <a:off x="13609800" y="115236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8"/>
          <p:cNvSpPr/>
          <p:nvPr/>
        </p:nvSpPr>
        <p:spPr>
          <a:xfrm>
            <a:off x="14671800" y="115236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9"/>
          <p:cNvSpPr/>
          <p:nvPr/>
        </p:nvSpPr>
        <p:spPr>
          <a:xfrm>
            <a:off x="15814800" y="18720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15814800" y="1241280"/>
            <a:ext cx="892080" cy="89244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1"/>
          <p:cNvSpPr/>
          <p:nvPr/>
        </p:nvSpPr>
        <p:spPr>
          <a:xfrm>
            <a:off x="9055080" y="-223920"/>
            <a:ext cx="89208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2"/>
          <p:cNvSpPr/>
          <p:nvPr/>
        </p:nvSpPr>
        <p:spPr>
          <a:xfrm>
            <a:off x="14590800" y="-223920"/>
            <a:ext cx="893520" cy="893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3"/>
          <p:cNvSpPr/>
          <p:nvPr/>
        </p:nvSpPr>
        <p:spPr>
          <a:xfrm>
            <a:off x="13609800" y="74124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14671800" y="741240"/>
            <a:ext cx="892080" cy="8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5"/>
          <p:cNvSpPr/>
          <p:nvPr/>
        </p:nvSpPr>
        <p:spPr>
          <a:xfrm>
            <a:off x="15814800" y="-22392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6"/>
          <p:cNvSpPr/>
          <p:nvPr/>
        </p:nvSpPr>
        <p:spPr>
          <a:xfrm>
            <a:off x="15814800" y="830160"/>
            <a:ext cx="892080" cy="893880"/>
          </a:xfrm>
          <a:prstGeom prst="ellipse">
            <a:avLst/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7"/>
          <p:cNvSpPr/>
          <p:nvPr/>
        </p:nvSpPr>
        <p:spPr>
          <a:xfrm>
            <a:off x="1285920" y="281304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8"/>
          <p:cNvSpPr/>
          <p:nvPr/>
        </p:nvSpPr>
        <p:spPr>
          <a:xfrm>
            <a:off x="2268360" y="2813040"/>
            <a:ext cx="892440" cy="892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9"/>
          <p:cNvSpPr/>
          <p:nvPr/>
        </p:nvSpPr>
        <p:spPr>
          <a:xfrm>
            <a:off x="1285920" y="377676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2347920" y="3776760"/>
            <a:ext cx="893880" cy="893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41"/>
          <p:cNvSpPr/>
          <p:nvPr/>
        </p:nvSpPr>
        <p:spPr>
          <a:xfrm>
            <a:off x="3490920" y="2813040"/>
            <a:ext cx="8938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2"/>
          <p:cNvSpPr/>
          <p:nvPr/>
        </p:nvSpPr>
        <p:spPr>
          <a:xfrm>
            <a:off x="3490920" y="3867120"/>
            <a:ext cx="893880" cy="8920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168800" y="263520"/>
            <a:ext cx="2356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shapes   6 + 6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triangles 4 + 4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0600" y="-28620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tential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60760" y="1625760"/>
          <a:ext cx="3527280" cy="359856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  <a:gridCol w="1174680"/>
              </a:tblGrid>
              <a:tr h="1798560"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riangl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35640" rIns="35640" tIns="35640" bIns="35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be0e3"/>
                      </a:solidFill>
                    </a:lnL>
                    <a:lnR w="1224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tween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488400" y="2106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491640" y="29822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 flipV="1">
            <a:off x="3285360" y="2724120"/>
            <a:ext cx="6778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979160" y="213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854960" y="29822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 flipV="1">
            <a:off x="4741200" y="2751120"/>
            <a:ext cx="6778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221360" y="25448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897408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tting acquain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812880" y="2374920"/>
            <a:ext cx="71262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Gill Sans"/>
              </a:rPr>
              <a:t>percents in random or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5760" y="3821040"/>
            <a:ext cx="867060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ighbour to guess which percent is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ithin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88400" y="2106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491640" y="2955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285360" y="2724120"/>
            <a:ext cx="6778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979160" y="213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854960" y="29822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741200" y="2751120"/>
            <a:ext cx="6778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221360" y="254484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rcRect l="0" t="7447" r="0" b="36286"/>
          <a:stretch/>
        </p:blipFill>
        <p:spPr>
          <a:xfrm>
            <a:off x="1219320" y="304920"/>
            <a:ext cx="6688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nitiz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704960" y="1893960"/>
            <a:ext cx="893880" cy="892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67120" y="1893960"/>
            <a:ext cx="892080" cy="892080"/>
          </a:xfrm>
          <a:prstGeom prst="rect">
            <a:avLst/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125360" y="2982960"/>
            <a:ext cx="89244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2205000" y="298296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286080" y="2982960"/>
            <a:ext cx="8938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367160" y="2982960"/>
            <a:ext cx="892080" cy="892080"/>
          </a:xfrm>
          <a:prstGeom prst="triangle">
            <a:avLst>
              <a:gd name="adj" fmla="val 50000"/>
            </a:avLst>
          </a:prstGeom>
          <a:solidFill>
            <a:srgbClr val="b3060e"/>
          </a:soli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928800" y="1581120"/>
            <a:ext cx="2251080" cy="2490840"/>
          </a:xfrm>
          <a:custGeom>
            <a:avLst/>
            <a:gdLst>
              <a:gd name="textAreaLeft" fmla="*/ 0 w 2251080"/>
              <a:gd name="textAreaRight" fmla="*/ 2251440 w 225108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21600" h="21600">
                <a:moveTo>
                  <a:pt x="2246" y="404"/>
                </a:moveTo>
                <a:lnTo>
                  <a:pt x="20477" y="0"/>
                </a:lnTo>
                <a:lnTo>
                  <a:pt x="21600" y="21600"/>
                </a:lnTo>
                <a:lnTo>
                  <a:pt x="0" y="21438"/>
                </a:lnTo>
                <a:lnTo>
                  <a:pt x="2246" y="404"/>
                </a:lnTo>
                <a:close/>
                <a:moveTo>
                  <a:pt x="2246" y="404"/>
                </a:move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oss-mulipl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11220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116880" y="29912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712040" y="3062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83624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962520" y="27237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973240" y="2732040"/>
            <a:ext cx="75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112200" y="22237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4633920" y="2820960"/>
            <a:ext cx="75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0" y="923760"/>
            <a:ext cx="322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This lunch is Papa Bear’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741320" y="4781520"/>
            <a:ext cx="51436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Draw a sandwich that would be just right for Baby B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035600" y="490680"/>
            <a:ext cx="277812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231840" y="1227240"/>
            <a:ext cx="867096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Gill Sans"/>
              </a:rPr>
              <a:t>How does the picture show that 4/5 is less than 9/10?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28592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4296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92888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571840" y="26431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3232080" y="2697120"/>
            <a:ext cx="500040" cy="490680"/>
          </a:xfrm>
          <a:prstGeom prst="ellipse">
            <a:avLst/>
          </a:prstGeom>
          <a:solidFill>
            <a:srgbClr val="84d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615960" y="3276720"/>
            <a:ext cx="3088800" cy="581040"/>
            <a:chOff x="615960" y="3276720"/>
            <a:chExt cx="3088800" cy="581040"/>
          </a:xfrm>
        </p:grpSpPr>
        <p:sp>
          <p:nvSpPr>
            <p:cNvPr id="198" name="AutoShape 7"/>
            <p:cNvSpPr/>
            <p:nvPr/>
          </p:nvSpPr>
          <p:spPr>
            <a:xfrm>
              <a:off x="61596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54448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190152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1258560" y="327672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205080" y="329436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5143680" y="2678040"/>
            <a:ext cx="3088800" cy="581040"/>
            <a:chOff x="5143680" y="2678040"/>
            <a:chExt cx="3088800" cy="581040"/>
          </a:xfrm>
        </p:grpSpPr>
        <p:sp>
          <p:nvSpPr>
            <p:cNvPr id="204" name="AutoShape 13"/>
            <p:cNvSpPr/>
            <p:nvPr/>
          </p:nvSpPr>
          <p:spPr>
            <a:xfrm>
              <a:off x="514368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>
              <a:off x="707220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>
              <a:off x="642924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6"/>
            <p:cNvSpPr/>
            <p:nvPr/>
          </p:nvSpPr>
          <p:spPr>
            <a:xfrm>
              <a:off x="5786280" y="26780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7"/>
            <p:cNvSpPr/>
            <p:nvPr/>
          </p:nvSpPr>
          <p:spPr>
            <a:xfrm>
              <a:off x="7732800" y="269568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19"/>
          <p:cNvSpPr/>
          <p:nvPr/>
        </p:nvSpPr>
        <p:spPr>
          <a:xfrm>
            <a:off x="513396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577692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641988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706284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770580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133200" y="701640"/>
            <a:ext cx="867096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Gill Sans"/>
              </a:rPr>
              <a:t>How does the picture show that 4/5 is less than 9/10?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588960" y="2598840"/>
            <a:ext cx="3088800" cy="581040"/>
            <a:chOff x="588960" y="2598840"/>
            <a:chExt cx="3088800" cy="581040"/>
          </a:xfrm>
        </p:grpSpPr>
        <p:sp>
          <p:nvSpPr>
            <p:cNvPr id="216" name="AutoShape 2"/>
            <p:cNvSpPr/>
            <p:nvPr/>
          </p:nvSpPr>
          <p:spPr>
            <a:xfrm>
              <a:off x="58896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3"/>
            <p:cNvSpPr/>
            <p:nvPr/>
          </p:nvSpPr>
          <p:spPr>
            <a:xfrm>
              <a:off x="251748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4"/>
            <p:cNvSpPr/>
            <p:nvPr/>
          </p:nvSpPr>
          <p:spPr>
            <a:xfrm>
              <a:off x="187452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"/>
            <p:cNvSpPr/>
            <p:nvPr/>
          </p:nvSpPr>
          <p:spPr>
            <a:xfrm>
              <a:off x="1231560" y="2598840"/>
              <a:ext cx="624600" cy="5810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>
              <a:off x="3178080" y="2616480"/>
              <a:ext cx="499680" cy="49140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"/>
          <p:cNvGrpSpPr/>
          <p:nvPr/>
        </p:nvGrpSpPr>
        <p:grpSpPr>
          <a:xfrm>
            <a:off x="5081760" y="2527200"/>
            <a:ext cx="3088800" cy="579600"/>
            <a:chOff x="5081760" y="2527200"/>
            <a:chExt cx="3088800" cy="579600"/>
          </a:xfrm>
        </p:grpSpPr>
        <p:sp>
          <p:nvSpPr>
            <p:cNvPr id="222" name="AutoShape 8"/>
            <p:cNvSpPr/>
            <p:nvPr/>
          </p:nvSpPr>
          <p:spPr>
            <a:xfrm>
              <a:off x="508176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9"/>
            <p:cNvSpPr/>
            <p:nvPr/>
          </p:nvSpPr>
          <p:spPr>
            <a:xfrm>
              <a:off x="701028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0"/>
            <p:cNvSpPr/>
            <p:nvPr/>
          </p:nvSpPr>
          <p:spPr>
            <a:xfrm>
              <a:off x="636732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1"/>
            <p:cNvSpPr/>
            <p:nvPr/>
          </p:nvSpPr>
          <p:spPr>
            <a:xfrm>
              <a:off x="5724360" y="2527200"/>
              <a:ext cx="624600" cy="5796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2712" h="23880">
                  <a:moveTo>
                    <a:pt x="11356" y="0"/>
                  </a:moveTo>
                  <a:lnTo>
                    <a:pt x="14693" y="7110"/>
                  </a:lnTo>
                  <a:lnTo>
                    <a:pt x="22156" y="8250"/>
                  </a:lnTo>
                  <a:lnTo>
                    <a:pt x="16756" y="13785"/>
                  </a:lnTo>
                  <a:lnTo>
                    <a:pt x="18031" y="21600"/>
                  </a:lnTo>
                  <a:lnTo>
                    <a:pt x="11356" y="17910"/>
                  </a:lnTo>
                  <a:lnTo>
                    <a:pt x="4681" y="21600"/>
                  </a:lnTo>
                  <a:lnTo>
                    <a:pt x="5956" y="13785"/>
                  </a:lnTo>
                  <a:lnTo>
                    <a:pt x="556" y="8250"/>
                  </a:lnTo>
                  <a:lnTo>
                    <a:pt x="8019" y="7110"/>
                  </a:lnTo>
                  <a:lnTo>
                    <a:pt x="11356" y="0"/>
                  </a:lnTo>
                  <a:close/>
                  <a:moveTo>
                    <a:pt x="11356" y="0"/>
                  </a:move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2"/>
            <p:cNvSpPr/>
            <p:nvPr/>
          </p:nvSpPr>
          <p:spPr>
            <a:xfrm>
              <a:off x="7670880" y="2544840"/>
              <a:ext cx="499680" cy="490320"/>
            </a:xfrm>
            <a:prstGeom prst="ellipse">
              <a:avLst/>
            </a:prstGeom>
            <a:solidFill>
              <a:srgbClr val="84d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14"/>
          <p:cNvSpPr/>
          <p:nvPr/>
        </p:nvSpPr>
        <p:spPr>
          <a:xfrm>
            <a:off x="513396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77692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641988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06284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8"/>
          <p:cNvSpPr/>
          <p:nvPr/>
        </p:nvSpPr>
        <p:spPr>
          <a:xfrm>
            <a:off x="7705800" y="3276720"/>
            <a:ext cx="625320" cy="581040"/>
          </a:xfrm>
          <a:custGeom>
            <a:avLst/>
            <a:gdLst>
              <a:gd name="textAreaLeft" fmla="*/ 0 w 625320"/>
              <a:gd name="textAreaRight" fmla="*/ 625680 w 625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2712" h="23880">
                <a:moveTo>
                  <a:pt x="11356" y="0"/>
                </a:moveTo>
                <a:lnTo>
                  <a:pt x="14693" y="7110"/>
                </a:lnTo>
                <a:lnTo>
                  <a:pt x="22156" y="8250"/>
                </a:lnTo>
                <a:lnTo>
                  <a:pt x="16756" y="13785"/>
                </a:lnTo>
                <a:lnTo>
                  <a:pt x="18031" y="21600"/>
                </a:lnTo>
                <a:lnTo>
                  <a:pt x="11356" y="17910"/>
                </a:lnTo>
                <a:lnTo>
                  <a:pt x="4681" y="21600"/>
                </a:lnTo>
                <a:lnTo>
                  <a:pt x="5956" y="13785"/>
                </a:lnTo>
                <a:lnTo>
                  <a:pt x="556" y="8250"/>
                </a:lnTo>
                <a:lnTo>
                  <a:pt x="8019" y="7110"/>
                </a:lnTo>
                <a:lnTo>
                  <a:pt x="11356" y="0"/>
                </a:lnTo>
                <a:close/>
                <a:moveTo>
                  <a:pt x="11356" y="0"/>
                </a:move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60200" y="795240"/>
            <a:ext cx="9144000" cy="14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  <a:ea typeface="Gill Sans"/>
              </a:rPr>
              <a:t>which changed mor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982800" y="2509920"/>
            <a:ext cx="9144000" cy="1838160"/>
            <a:chOff x="982800" y="2509920"/>
            <a:chExt cx="9144000" cy="1838160"/>
          </a:xfrm>
        </p:grpSpPr>
        <p:sp>
          <p:nvSpPr>
            <p:cNvPr id="234" name="Rectangle 2"/>
            <p:cNvSpPr/>
            <p:nvPr/>
          </p:nvSpPr>
          <p:spPr>
            <a:xfrm>
              <a:off x="982800" y="2509920"/>
              <a:ext cx="914400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lvl="3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Gill Sans"/>
                </a:rPr>
                <a:t>1          5       vs.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Arial"/>
                  <a:ea typeface="Gill Sans"/>
                </a:rPr>
                <a:t>96        106 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9760" indent="-239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3"/>
            <p:cNvSpPr/>
            <p:nvPr/>
          </p:nvSpPr>
          <p:spPr>
            <a:xfrm>
              <a:off x="1600920" y="3200400"/>
              <a:ext cx="964080" cy="472680"/>
            </a:xfrm>
            <a:prstGeom prst="rightArrow">
              <a:avLst>
                <a:gd name="adj1" fmla="val 32000"/>
                <a:gd name="adj2" fmla="val 83095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4"/>
            <p:cNvSpPr/>
            <p:nvPr/>
          </p:nvSpPr>
          <p:spPr>
            <a:xfrm>
              <a:off x="1600920" y="2591280"/>
              <a:ext cx="964080" cy="472680"/>
            </a:xfrm>
            <a:prstGeom prst="rightArrow">
              <a:avLst>
                <a:gd name="adj1" fmla="val 32000"/>
                <a:gd name="adj2" fmla="val 83095"/>
              </a:avLst>
            </a:prstGeom>
            <a:gradFill rotWithShape="0">
              <a:gsLst>
                <a:gs pos="0">
                  <a:srgbClr val="074eb3"/>
                </a:gs>
                <a:gs pos="100000">
                  <a:srgbClr val="0b328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731880" y="-115920"/>
            <a:ext cx="768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1¢ every time someone in Ontario sneezes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how long to become a $1 000 000air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973080" y="1473120"/>
            <a:ext cx="3149640" cy="208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4581360" y="2290680"/>
            <a:ext cx="4035600" cy="2446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971640" y="3616200"/>
            <a:ext cx="315108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070000" y="669960"/>
            <a:ext cx="500400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3520" y="1972800"/>
            <a:ext cx="7358040" cy="2901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4000"/>
          </a:bodyPr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daily calorie intake that is sn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life that you’ve been a teacher/consultant/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6440" indent="-32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your staff that is under 2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38160" y="638280"/>
            <a:ext cx="7124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  <a:ea typeface="Gill Sans"/>
              </a:rPr>
              <a:t>Estimate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  <a:ea typeface="Gill Sans"/>
              </a:rPr>
              <a:t>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3880" y="179280"/>
            <a:ext cx="7616880" cy="2517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5ca9"/>
                </a:solidFill>
                <a:latin typeface="Arial"/>
              </a:rPr>
              <a:t>What is proportional reasoning?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OWN EXAMPL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Different CONTEX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25152" t="0" r="25005" b="0"/>
          <a:stretch/>
        </p:blipFill>
        <p:spPr>
          <a:xfrm>
            <a:off x="5105520" y="1447920"/>
            <a:ext cx="2884320" cy="3840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st two cam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3795840" cy="4589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69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big ideas in algebraic thinking and proportional reaso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69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using open questions and parallel tasks for DI and richer mathematics class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2b5ca9"/>
                </a:solidFill>
                <a:latin typeface="Arial"/>
              </a:rPr>
              <a:t>and now</a:t>
            </a:r>
            <a:endParaRPr b="0" lang="en-US" sz="6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2011----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cus more on how to respond to student thinking in these area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3520" y="32184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s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3520" y="166968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wiki and in the program bookle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554560" cy="191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418680"/>
            <a:ext cx="735948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w long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327636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different ways to compare their length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is better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549240" y="2678400"/>
            <a:ext cx="100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17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834320" y="2589480"/>
            <a:ext cx="83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9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233028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125880" y="178596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PINNING </a:t>
            </a: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2712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86cd4d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8500af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bafb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c971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3eb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ork with a partn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reate a spinner where you are likely to spin 3 more reds than blues in 10 sp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many more reds than blues are you likely to spin in 15 sp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7661160" y="1446120"/>
            <a:ext cx="1071720" cy="107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7:58:58Z</dcterms:modified>
  <cp:revision>8</cp:revision>
  <dc:subject/>
  <dc:title>&lt;Title&gt;</dc:title>
</cp:coreProperties>
</file>